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BCDE-1769-4CA9-A130-FFA90B02F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259D-03C7-48D5-9691-AD8DFA131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DA2B-6EB4-407D-8736-FAE80603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12D1-45FE-4157-A462-36C31489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C77E-8E61-4C66-AD5D-6E5E3848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9597-ADAF-4302-8EE3-69909110F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79A8-3D2E-44D2-ACD7-FB4C1557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C081-C334-4DD1-BE29-4B1D7E3A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061C-7C1C-4DBF-B28B-3482663F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9C9D-457C-45E7-8906-69D2E462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0F74-405F-4D17-8FAE-AF75A0EC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A92A-B148-4571-B26B-C58D7D99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B285-F09C-4CA9-B9F5-1AA166E6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20E2-2FE5-4589-9EF3-46DFAC90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E56A-19C8-4810-874D-71E66F761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Jailene  Mor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Jailene Moreno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Jailene Moren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Jailene Moren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Jailene. Yo vivo en nueva york. Yo tengo catorce años. Yo tengo una hermana y un hermano. Yo soy alta y joven. Mi gusta leer y escrib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Ellos están felices en la casa con mi hermano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 días. Mi familia está bie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ómo está tu familia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4T14:56:25Z</dcterms:modified>
  <cp:revision>106</cp:revision>
  <dc:subject/>
  <dc:title>Profile</dc:title>
</cp:coreProperties>
</file>